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5.wmf" ContentType="image/x-wmf"/>
  <Override PartName="/ppt/media/image10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4.gif" ContentType="image/gif"/>
  <Override PartName="/ppt/media/image16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09223-7D90-48F8-BC7E-0AACBF48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A984D-A0A6-463E-A55C-36E65462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1422B-4297-4C5B-8D55-EF94446E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1E583-48E7-4437-BC06-0C91777A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A5CC-23BF-4C44-9DF4-202C3001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CA8F-025D-4586-A9D4-B44EF93C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956A-0D79-444F-8547-BEEB7475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63AF-F98C-4AEC-8907-9C632222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D281-CEE5-4B89-B442-89B66D46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1C22-89B8-4A54-BC95-49A179A5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D3D0-B239-4C54-BDB8-CA3BFF0E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36411-390C-4669-9F59-8223EB70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20E4-BA6B-466E-A579-53C9C6D4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A455-5FE5-4FA1-944B-9B6D71EB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5234-7065-4628-90DE-F850FAF6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14B5-874B-46FD-8B9D-F219F5A9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9C18-004B-4B4D-ACA7-73CF5B5F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A128-3097-44FE-87C0-612CA7BF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12877-16E6-4039-91FF-6F4407FB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ED17-28D7-4F00-91C9-BEC52646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1E6E-2FF9-4663-B03F-FCBC9EAE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C76B-D90B-4B90-BAE0-E26DE824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E539-C6CA-4BD3-BC2E-1DB958D9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A1F75-1EB0-4D72-9038-D063D6EC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4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Group 4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AutoShape 2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AutoShape 3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AutoShape 4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AutoShape 5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AutoShape 6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AutoShape 7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AutoShape 8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AutoShape 9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AutoShape 10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AutoShape 11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AutoShape 12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AutoShape 13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AutoShape 14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AutoShape 15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AutoShape 16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AutoShape 17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AutoShape 18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AutoShape 19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AutoShape 20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AutoShape 21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AutoShape 22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AutoShape 23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AutoShape 24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AutoShape 25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AutoShape 26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AutoShape 27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AutoShape 28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AutoShape 29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AutoShape 30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AutoShape 31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AutoShape 32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AutoShape 33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AutoShape 34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AutoShape 35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AutoShape 36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AutoShape 37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AutoShape 38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AutoShape 39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AutoShape 40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AutoShape 41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AutoShape 42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Group 77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Rectangle 44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AutoShape 45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AutoShape 46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AutoShape 47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AutoShape 48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AutoShape 49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AutoShape 50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AutoShape 51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AutoShape 52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AutoShape 53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AutoShape 54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AutoShape 55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AutoShape 56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AutoShape 57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AutoShape 58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AutoShape 59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AutoShape 60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AutoShape 61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AutoShape 62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AutoShape 63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AutoShape 64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AutoShape 65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AutoShape 66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AutoShape 67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AutoShape 68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AutoShape 69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AutoShape 70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71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AutoShape 72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AutoShape 73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AutoShape 74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AutoShape 75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AutoShape 76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11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AutoShape 78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AutoShape 79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AutoShape 80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AutoShape 81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AutoShape 82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AutoShape 83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AutoShape 84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AutoShape 85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AutoShape 86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AutoShape 87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AutoShape 88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AutoShape 89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AutoShape 90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AutoShape 91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AutoShape 92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AutoShape 93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AutoShape 94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AutoShape 95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AutoShape 96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AutoShape 97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AutoShape 98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AutoShape 99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AutoShape 100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AutoShape 101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AutoShape 102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AutoShape 103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AutoShape 104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AutoShape 105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AutoShape 106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AutoShape 107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AutoShape 108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AutoShape 109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AutoShape 110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AutoShape 111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AutoShape 112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AutoShape 113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AutoShape 114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AutoShape 115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AutoShape 116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AutoShape 117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AutoShape 118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53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Rectangle 120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AutoShape 121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AutoShape 122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AutoShape 123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AutoShape 124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AutoShape 125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AutoShape 126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AutoShape 127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AutoShape 128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AutoShape 129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AutoShape 130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AutoShape 131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AutoShape 132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AutoShape 133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AutoShape 134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AutoShape 135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AutoShape 136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AutoShape 137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AutoShape 138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AutoShape 139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AutoShape 140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AutoShape 141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AutoShape 142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AutoShape 143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AutoShape 144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AutoShape 145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AutoShape 146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AutoShape 147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AutoShape 148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AutoShape 149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150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AutoShape 151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AutoShape 152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7D69-3DD6-4731-A242-40A5D5021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54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Group 43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AutoShape 2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AutoShape 3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AutoShape 4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utoShape 5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6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AutoShape 7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AutoShape 8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utoShape 9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utoShape 10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AutoShape 11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AutoShape 12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AutoShape 13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14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AutoShape 15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AutoShape 16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AutoShape 17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AutoShape 18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19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AutoShape 20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AutoShape 21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AutoShape 22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AutoShape 23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AutoShape 24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AutoShape 25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AutoShape 26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AutoShape 27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AutoShape 28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AutoShape 29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30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AutoShape 31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AutoShape 32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AutoShape 33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AutoShape 34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35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AutoShape 36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AutoShape 37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AutoShape 38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AutoShape 39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utoShape 40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AutoShape 41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AutoShape 42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77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Rectangle 44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45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AutoShape 46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AutoShape 47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AutoShape 48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AutoShape 49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50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AutoShape 51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AutoShape 52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AutoShape 53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AutoShape 54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AutoShape 55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AutoShape 56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AutoShape 57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AutoShape 58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AutoShape 59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AutoShape 60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AutoShape 61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62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AutoShape 63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AutoShape 64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AutoShape 65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AutoShape 66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67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AutoShape 68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AutoShape 69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AutoShape 70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71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AutoShape 72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AutoShape 73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AutoShape 74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AutoShape 75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AutoShape 76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119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AutoShape 78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AutoShape 79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AutoShape 80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AutoShape 81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AutoShape 82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AutoShape 83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AutoShape 84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utoShape 85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AutoShape 86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AutoShape 87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AutoShape 88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89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AutoShape 90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AutoShape 91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AutoShape 92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AutoShape 93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AutoShape 94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AutoShape 95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AutoShape 96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AutoShape 97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AutoShape 98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AutoShape 99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AutoShape 100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AutoShape 101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AutoShape 102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AutoShape 103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AutoShape 104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AutoShape 105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AutoShape 106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AutoShape 107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AutoShape 108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AutoShape 109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AutoShape 110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AutoShape 111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AutoShape 112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AutoShape 113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AutoShape 114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AutoShape 115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AutoShape 116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AutoShape 117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AutoShape 118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153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Rectangle 120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AutoShape 121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AutoShape 122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AutoShape 123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AutoShape 124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AutoShape 125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AutoShape 126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AutoShape 127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AutoShape 128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AutoShape 129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AutoShape 130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AutoShape 131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AutoShape 132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AutoShape 133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AutoShape 134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AutoShape 135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AutoShape 136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AutoShape 137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AutoShape 138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AutoShape 139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AutoShape 140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AutoShape 141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AutoShape 142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143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AutoShape 144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utoShape 145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AutoShape 146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AutoShape 147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AutoShape 148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AutoShape 149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Rectangle 150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AutoShape 151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AutoShape 152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F0A4-AC5A-466B-9436-C1024F24A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Tara and Tiree</a:t>
            </a:r>
            <a:br>
              <a:rPr sz="6000"/>
            </a:b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Vocabulary and Amazing Words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Grade 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Picture 4" descr=""/>
          <p:cNvPicPr/>
          <p:nvPr/>
        </p:nvPicPr>
        <p:blipFill>
          <a:blip r:embed="rId1"/>
          <a:stretch/>
        </p:blipFill>
        <p:spPr>
          <a:xfrm>
            <a:off x="746748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3656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instinct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An ability an animal is born with that makes it act in a certain way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Picture 4" descr="cat_102"/>
          <p:cNvPicPr/>
          <p:nvPr/>
        </p:nvPicPr>
        <p:blipFill>
          <a:blip r:embed="rId1"/>
          <a:stretch/>
        </p:blipFill>
        <p:spPr>
          <a:xfrm>
            <a:off x="4495680" y="4038480"/>
            <a:ext cx="304812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skittish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Nervous and easily upset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3" name="Picture 4" descr="MCj04258200000[1]"/>
          <p:cNvPicPr/>
          <p:nvPr/>
        </p:nvPicPr>
        <p:blipFill>
          <a:blip r:embed="rId1"/>
          <a:stretch/>
        </p:blipFill>
        <p:spPr>
          <a:xfrm>
            <a:off x="5257800" y="3048120"/>
            <a:ext cx="1981080" cy="2025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MCj04298390000[1]"/>
          <p:cNvPicPr/>
          <p:nvPr/>
        </p:nvPicPr>
        <p:blipFill>
          <a:blip r:embed="rId2"/>
          <a:stretch/>
        </p:blipFill>
        <p:spPr>
          <a:xfrm>
            <a:off x="1752480" y="3276720"/>
            <a:ext cx="1851120" cy="1869840"/>
          </a:xfrm>
          <a:prstGeom prst="rect">
            <a:avLst/>
          </a:prstGeom>
          <a:ln w="0">
            <a:noFill/>
          </a:ln>
        </p:spPr>
      </p:pic>
      <p:pic>
        <p:nvPicPr>
          <p:cNvPr id="435" name="j0388447.wav" descr=""/>
          <p:cNvPicPr/>
          <p:nvPr/>
        </p:nvPicPr>
        <p:blipFill>
          <a:blip r:embed="rId3"/>
          <a:stretch/>
        </p:blipFill>
        <p:spPr>
          <a:xfrm>
            <a:off x="8153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1385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blustery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en the wind blows hard and makes a lot of noise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Picture 5" descr="MCNA02276_0000[1]"/>
          <p:cNvPicPr/>
          <p:nvPr/>
        </p:nvPicPr>
        <p:blipFill>
          <a:blip r:embed="rId1"/>
          <a:stretch/>
        </p:blipFill>
        <p:spPr>
          <a:xfrm>
            <a:off x="6553080" y="3429000"/>
            <a:ext cx="970200" cy="765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6" descr="MCNA01476_0000[1]"/>
          <p:cNvPicPr/>
          <p:nvPr/>
        </p:nvPicPr>
        <p:blipFill>
          <a:blip r:embed="rId2"/>
          <a:stretch/>
        </p:blipFill>
        <p:spPr>
          <a:xfrm>
            <a:off x="1600200" y="3124080"/>
            <a:ext cx="4595760" cy="33307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MCNA01635_0000[1]"/>
          <p:cNvPicPr/>
          <p:nvPr/>
        </p:nvPicPr>
        <p:blipFill>
          <a:blip r:embed="rId3"/>
          <a:stretch/>
        </p:blipFill>
        <p:spPr>
          <a:xfrm>
            <a:off x="6248520" y="685800"/>
            <a:ext cx="1906560" cy="1446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MCj02501010000[1]"/>
          <p:cNvPicPr/>
          <p:nvPr/>
        </p:nvPicPr>
        <p:blipFill>
          <a:blip r:embed="rId4"/>
          <a:stretch/>
        </p:blipFill>
        <p:spPr>
          <a:xfrm>
            <a:off x="762120" y="380880"/>
            <a:ext cx="1047600" cy="1422360"/>
          </a:xfrm>
          <a:prstGeom prst="rect">
            <a:avLst/>
          </a:prstGeom>
          <a:ln w="0">
            <a:noFill/>
          </a:ln>
        </p:spPr>
      </p:pic>
      <p:pic>
        <p:nvPicPr>
          <p:cNvPr id="442" name="wind01.aiff" descr=""/>
          <p:cNvPicPr/>
          <p:nvPr/>
        </p:nvPicPr>
        <p:blipFill>
          <a:blip r:embed="rId5"/>
          <a:stretch/>
        </p:blipFill>
        <p:spPr>
          <a:xfrm>
            <a:off x="80773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45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9089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avalanch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When a lot of snow suddenly slides down a mountai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6" descr="eagle_roadhit_020306"/>
          <p:cNvPicPr/>
          <p:nvPr/>
        </p:nvPicPr>
        <p:blipFill>
          <a:blip r:embed="rId1"/>
          <a:stretch/>
        </p:blipFill>
        <p:spPr>
          <a:xfrm>
            <a:off x="2286000" y="350532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"/>
          <p:cNvPicPr/>
          <p:nvPr/>
        </p:nvPicPr>
        <p:blipFill>
          <a:blip r:embed="rId2"/>
          <a:stretch/>
        </p:blipFill>
        <p:spPr>
          <a:xfrm>
            <a:off x="79246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2669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fast-pace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Happening very quickly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9" name="MSSN00318_0000[1].mid" descr=""/>
          <p:cNvPicPr/>
          <p:nvPr/>
        </p:nvPicPr>
        <p:blipFill>
          <a:blip r:embed="rId1"/>
          <a:stretch/>
        </p:blipFill>
        <p:spPr>
          <a:xfrm>
            <a:off x="80773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MCj00787150000[1]"/>
          <p:cNvPicPr/>
          <p:nvPr/>
        </p:nvPicPr>
        <p:blipFill>
          <a:blip r:embed="rId2"/>
          <a:stretch/>
        </p:blipFill>
        <p:spPr>
          <a:xfrm>
            <a:off x="1828800" y="2971800"/>
            <a:ext cx="2330280" cy="2895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MCj02305440000[1]"/>
          <p:cNvPicPr/>
          <p:nvPr/>
        </p:nvPicPr>
        <p:blipFill>
          <a:blip r:embed="rId3"/>
          <a:stretch/>
        </p:blipFill>
        <p:spPr>
          <a:xfrm>
            <a:off x="5181480" y="2971800"/>
            <a:ext cx="2565360" cy="236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59162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Vocabulary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ave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colla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8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slippe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600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brav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Not afraid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6" name="Picture 8" descr="MCj04298990000[1]"/>
          <p:cNvPicPr/>
          <p:nvPr/>
        </p:nvPicPr>
        <p:blipFill>
          <a:blip r:embed="rId1"/>
          <a:stretch/>
        </p:blipFill>
        <p:spPr>
          <a:xfrm>
            <a:off x="4038480" y="2438280"/>
            <a:ext cx="3832200" cy="36435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MCj04104350000[1]"/>
          <p:cNvPicPr/>
          <p:nvPr/>
        </p:nvPicPr>
        <p:blipFill>
          <a:blip r:embed="rId2"/>
          <a:stretch/>
        </p:blipFill>
        <p:spPr>
          <a:xfrm>
            <a:off x="838080" y="3200400"/>
            <a:ext cx="2259000" cy="2527200"/>
          </a:xfrm>
          <a:prstGeom prst="rect">
            <a:avLst/>
          </a:prstGeom>
          <a:ln w="0">
            <a:noFill/>
          </a:ln>
        </p:spPr>
      </p:pic>
      <p:pic>
        <p:nvPicPr>
          <p:cNvPr id="398" name="MSj03885390000[1].wav" descr=""/>
          <p:cNvPicPr/>
          <p:nvPr/>
        </p:nvPicPr>
        <p:blipFill>
          <a:blip r:embed="rId3"/>
          <a:stretch/>
        </p:blipFill>
        <p:spPr>
          <a:xfrm>
            <a:off x="792468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2033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collar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A band that is put around the neck of a dog or other pet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1" name="Picture 4" descr="MCAN02347_0000[1]"/>
          <p:cNvPicPr/>
          <p:nvPr/>
        </p:nvPicPr>
        <p:blipFill>
          <a:blip r:embed="rId1"/>
          <a:stretch/>
        </p:blipFill>
        <p:spPr>
          <a:xfrm>
            <a:off x="2362320" y="3733920"/>
            <a:ext cx="4195800" cy="2133360"/>
          </a:xfrm>
          <a:prstGeom prst="rect">
            <a:avLst/>
          </a:prstGeom>
          <a:ln w="0">
            <a:noFill/>
          </a:ln>
        </p:spPr>
      </p:pic>
      <p:sp>
        <p:nvSpPr>
          <p:cNvPr id="402" name="Line 5"/>
          <p:cNvSpPr/>
          <p:nvPr/>
        </p:nvSpPr>
        <p:spPr>
          <a:xfrm flipH="1">
            <a:off x="6324480" y="3429000"/>
            <a:ext cx="198144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8001000" y="762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3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3357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slippe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To slide suddenly and unexpectedly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6" name="Picture 5" descr="MCj02861180000[1]"/>
          <p:cNvPicPr/>
          <p:nvPr/>
        </p:nvPicPr>
        <p:blipFill>
          <a:blip r:embed="rId1"/>
          <a:stretch/>
        </p:blipFill>
        <p:spPr>
          <a:xfrm>
            <a:off x="5181480" y="3124080"/>
            <a:ext cx="2544840" cy="2678400"/>
          </a:xfrm>
          <a:prstGeom prst="rect">
            <a:avLst/>
          </a:prstGeom>
          <a:ln w="0">
            <a:noFill/>
          </a:ln>
        </p:spPr>
      </p:pic>
      <p:pic>
        <p:nvPicPr>
          <p:cNvPr id="407" name="thereiwas.wav" descr=""/>
          <p:cNvPicPr/>
          <p:nvPr/>
        </p:nvPicPr>
        <p:blipFill>
          <a:blip r:embed="rId2"/>
          <a:stretch/>
        </p:blipFill>
        <p:spPr>
          <a:xfrm>
            <a:off x="76201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4089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Amazing Words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courageous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hazard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rescue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instinct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skittish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blustery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avalanche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fast-paced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68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68" fill="hold"/>
                                        <p:tgtEl>
                                          <p:spTgt spid="4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68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68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courageous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Full of courage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4" descr="MPj04222430000[1]"/>
          <p:cNvPicPr/>
          <p:nvPr/>
        </p:nvPicPr>
        <p:blipFill>
          <a:blip r:embed="rId1"/>
          <a:stretch/>
        </p:blipFill>
        <p:spPr>
          <a:xfrm>
            <a:off x="5334120" y="1905120"/>
            <a:ext cx="2541600" cy="3809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MCj04280830000[1]"/>
          <p:cNvPicPr/>
          <p:nvPr/>
        </p:nvPicPr>
        <p:blipFill>
          <a:blip r:embed="rId2"/>
          <a:stretch/>
        </p:blipFill>
        <p:spPr>
          <a:xfrm>
            <a:off x="2057400" y="2819520"/>
            <a:ext cx="2197080" cy="2574720"/>
          </a:xfrm>
          <a:prstGeom prst="rect">
            <a:avLst/>
          </a:prstGeom>
          <a:ln w="0">
            <a:noFill/>
          </a:ln>
        </p:spPr>
      </p:pic>
      <p:pic>
        <p:nvPicPr>
          <p:cNvPr id="415" name="MSBD00306_0000[1].mid" descr=""/>
          <p:cNvPicPr/>
          <p:nvPr/>
        </p:nvPicPr>
        <p:blipFill>
          <a:blip r:embed="rId3"/>
          <a:stretch/>
        </p:blipFill>
        <p:spPr>
          <a:xfrm>
            <a:off x="815328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0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52020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hazard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something dangerous.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Picture 4" descr="MCj02807140000[1]"/>
          <p:cNvPicPr/>
          <p:nvPr/>
        </p:nvPicPr>
        <p:blipFill>
          <a:blip r:embed="rId1"/>
          <a:stretch/>
        </p:blipFill>
        <p:spPr>
          <a:xfrm>
            <a:off x="3276720" y="3200400"/>
            <a:ext cx="2182680" cy="2608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MCj02959610000[1]"/>
          <p:cNvPicPr/>
          <p:nvPr/>
        </p:nvPicPr>
        <p:blipFill>
          <a:blip r:embed="rId2"/>
          <a:stretch/>
        </p:blipFill>
        <p:spPr>
          <a:xfrm>
            <a:off x="1219320" y="2819520"/>
            <a:ext cx="2022480" cy="1828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MCj00978410000[1]"/>
          <p:cNvPicPr/>
          <p:nvPr/>
        </p:nvPicPr>
        <p:blipFill>
          <a:blip r:embed="rId3"/>
          <a:stretch/>
        </p:blipFill>
        <p:spPr>
          <a:xfrm>
            <a:off x="6324480" y="3048120"/>
            <a:ext cx="1793880" cy="1693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"/>
          <p:cNvPicPr/>
          <p:nvPr/>
        </p:nvPicPr>
        <p:blipFill>
          <a:blip r:embed="rId4"/>
          <a:stretch/>
        </p:blipFill>
        <p:spPr>
          <a:xfrm>
            <a:off x="8153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452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b7a5"/>
                </a:solidFill>
                <a:latin typeface="Times New Roman"/>
              </a:rPr>
              <a:t>rescue</a:t>
            </a:r>
            <a:endParaRPr b="0" lang="en-US" sz="60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Saving someone or something from danger.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Picture 4" descr="MCj02903540000[1]"/>
          <p:cNvPicPr/>
          <p:nvPr/>
        </p:nvPicPr>
        <p:blipFill>
          <a:blip r:embed="rId1"/>
          <a:stretch/>
        </p:blipFill>
        <p:spPr>
          <a:xfrm>
            <a:off x="6934320" y="3505320"/>
            <a:ext cx="1339560" cy="1427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MCBD05084_0000[1]"/>
          <p:cNvPicPr/>
          <p:nvPr/>
        </p:nvPicPr>
        <p:blipFill>
          <a:blip r:embed="rId2"/>
          <a:stretch/>
        </p:blipFill>
        <p:spPr>
          <a:xfrm>
            <a:off x="4114800" y="3352680"/>
            <a:ext cx="2197080" cy="2897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MCTN01338_0000[1]"/>
          <p:cNvPicPr/>
          <p:nvPr/>
        </p:nvPicPr>
        <p:blipFill>
          <a:blip r:embed="rId3"/>
          <a:stretch/>
        </p:blipFill>
        <p:spPr>
          <a:xfrm>
            <a:off x="1295280" y="3962520"/>
            <a:ext cx="1441440" cy="20286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"/>
          <p:cNvPicPr/>
          <p:nvPr/>
        </p:nvPicPr>
        <p:blipFill>
          <a:blip r:embed="rId4"/>
          <a:stretch/>
        </p:blipFill>
        <p:spPr>
          <a:xfrm>
            <a:off x="7620120" y="838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6707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16:32:32Z</dcterms:created>
  <dc:creator>Delia</dc:creator>
  <dc:description/>
  <dc:language>en-US</dc:language>
  <cp:lastModifiedBy>Delia</cp:lastModifiedBy>
  <dcterms:modified xsi:type="dcterms:W3CDTF">2011-10-22T18:05:03Z</dcterms:modified>
  <cp:revision>2</cp:revision>
  <dc:subject/>
  <dc:title>Tara and Tiree Vocabulary and Amazing Wor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21033</vt:lpwstr>
  </property>
</Properties>
</file>